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690-163E-42F6-8C7D-F72D4E94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B38-DB03-4032-B30A-E036AB2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272-CF4B-4D5B-88EE-2C4B49C9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05F-04E1-4E28-B357-1392C6A7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1363-3436-4C06-8C62-0F899F8A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032B-83E3-4B7D-A52B-A8D5AA2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4711-4B80-409E-9FD6-996A3DB8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ABF-79E5-4E36-9AD0-6D32882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29C-2042-4A3D-96A3-7AC5C67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E123-2BE4-4365-B90A-831CCE6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4DB-0084-4E0B-94C9-411A0E5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9C0-6A99-40F2-B137-F2583E3A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C55-1FC3-4BD8-952C-8F90B4D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4C4-D67F-43DD-855F-C69A8B8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7810-E3B0-4A05-86FB-EE61BE6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6DF-72A5-4DC5-A046-C58C12A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5A77-EAEA-45EB-B9ED-9B782718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867-6180-441B-8F3C-14A7E5E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587-0D71-4CE7-9CE2-167E810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B7C-13DB-449A-9A88-9774C6F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86D-076E-4EFC-B529-B8A68A2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C91-0946-4EAE-9E89-22E7EBE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948-F43C-49D5-9248-24318EC5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7AE-2838-4414-ABC6-8E72DAC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4F29-2B93-4AD3-B580-AFC8B1F5079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2F7A-04F2-4AD5-935A-BE84E1C18233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Coaching%20light_heavy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port to Management Committe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396252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Jul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avid Bu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ews/Issues/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Data timeline for next set up data 29th August- VELS data Sem 1 currently being collected by co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Specific issues being dealt with on case by case basis. Involvement of School Leadership Team, Team Leader and SEO in partnership with coach critical (case study to be discus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ime provided for teachers to work with coach away from class- esp small primary schools and secondary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Some Coaches spread too thinly? Difficult to have impact if only at a school for one day per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Need to think about schools we add/remove for 2009. What’s the criteria? How/when will this be decided? What will be our focus (year levels/curriculum areas)?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279360"/>
          <a:ext cx="822960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9360"/>
                    <a:ext cx="82296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7236000" y="623736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d-Year 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flection on mid-year progress with reference to the </a:t>
            </a:r>
            <a:r>
              <a:rPr b="0" i="1" lang="en-US" sz="3000" spc="-1" strike="noStrike">
                <a:solidFill>
                  <a:srgbClr val="6699ff"/>
                </a:solidFill>
                <a:latin typeface="Arial"/>
              </a:rPr>
              <a:t>‘Accountabilities – Teaching &amp; Learning Coaches’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ramework (as presented by SMR on 20 December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o coach and mentor teachers in a one-to-one situatio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ll coaches are coaching teachers at their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nversations based on protocols and data gath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ost now have obtained dedicated time to meet with their teachers- to set goals and reflect on lessons, data and plan curr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hift from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‘Coaching Light’ to ‘Coaching Heavy’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– digging deeper into teacher values and challenging pre-conce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o build teachers’ disciplinary and pedagogical content knowledge and their repertoire of high quality teaching practices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This is the focus of our ro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This is also being done through modelling and team teac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o collaborate with teachers to plan and deliver curriculum and to provide feedback on the quality of curriculum delivery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s is now happening in nearly all cases as conversations turn to the curriculum that underpins les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use of data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has been a good vehicle to drive curriculum change as teachers reflect on the range of abilities in their classroom and the specific abilities/needs/misconceptions of individual students (some have been able to find extra time to plan curriculum changes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4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o support teachers to implement differentiation of curriculum to meet the diverse needs of students in their class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The </a:t>
            </a:r>
            <a:r>
              <a:rPr b="0" lang="en-A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use of data </a:t>
            </a: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(eg On Demand testing &amp; AIM data) has helped ‘open the door’ for us and to persuade teachers of the need to build flexibility into classroom pract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Assessment for Learning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To support teachers to develop rich assessment tasks and to utilise data effectively to inform curriculum planning and delivery and to monitor student learning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025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his has been happening, particularly in a primary school setting. The shift has been to encourage mathematics to be at the centre of a rich task, rather than an after-thou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his is still a challenge in a secondary school setting where no interdisciplinary Professional Learning Team networks exist but coaches working with teams in flexible learning spaces are experiencing succ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Good vehicle for ICT integration too, eg use of wiki, online tools and interactive whitebo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To promote and implement existing DEECD policy and resources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Focusing teachers on VELS and the progression points as well as the Assessmen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Use of Principles of Learning and Teaching component mapping and student survey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Use of resources such as maths domain page, Scaffolding Numeracy in the Middle Years, Numeract Interview, On Demand Testing, Digilearn, E-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Encouraging teams to apply for Teacher Professional Leav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A focus of team PD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To assist participating schools to implement practices that sustain improvement beyond the funded period of the initiative.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025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Coaches have been working hard to ‘spread the word’ beyond the group of teachers they are working with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Helping to create partnerships betwee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Leadership of professional development sessions, eg On Demand Testing, Digilearn Resources, use of Interactive Whiteboard in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Presentations to wider forums, Ed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4:28:55Z</dcterms:created>
  <dc:creator>01751091</dc:creator>
  <dc:description/>
  <dc:language>en-US</dc:language>
  <cp:lastModifiedBy>burtond</cp:lastModifiedBy>
  <dcterms:modified xsi:type="dcterms:W3CDTF">2008-07-25T02:27:46Z</dcterms:modified>
  <cp:revision>22</cp:revision>
  <dc:subject/>
  <dc:title>Using On Demand Testing</dc:title>
</cp:coreProperties>
</file>